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6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9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82FA-E81A-46B0-8885-DF08D707821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pter 14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rrhenius Concept:  Acids produce H+ in solution, bases produce OH 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rønsted-Lowry:  Acids are H+ donors, bases are proton accep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l  +  H2O            Cl  +   H3O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      base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conjugate   conjug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se          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ton is transferred from the HCl molecule to the water molecu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pter 14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rrhenius Concept:  Acids produce H+ in solution, bases produce OH 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rønsted-Lowry:  Acids are H+ donors, bases are proton accep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l  +  H2O            Cl  +   H3O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id      base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conjugate   conjug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e          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ton is transferred from the HCl molecule to the water molec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noprotic acid: One acidic proton (HC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l(aq)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H+(aq) + Cl-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protic acid: Two acidic protons (H2SO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2SO4(aq)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H+(aq) + HSO4-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SO4- (aq)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H+(aq) + SO4 2-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xyacids: Acidic proton is attached to an oxygen atom (H2SO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rganic acids: Those with a carbon atom backbone, contain the carboxyl group (-COOH).   CH3-COOH, C6H5-CO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noprotic acid: One acidic proton (HC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l(aq)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H+(aq) + Cl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protic acid: Two acidic protons (H2SO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2SO4(aq)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H+(aq) + HSO4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SO4- (aq)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H+(aq) + SO4 2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xyacids: Acidic proton is attached to an oxygen atom (H2SO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ganic acids: Those with a carbon atom backbone, contain the carboxyl group (-COOH).   CH3-COOH, C6H5-CO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as an Acid and a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ubstance is said to be amphoteric if it can behave either as an acid or as a base. Water is amphoteric (it can behave either as an acid or a bas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2O + H2O    H3O+ + OH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      con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1   base 2      acid 2    bas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w = [H3O+][OH-] = [H+][OH-] = 1  1014 at 25°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, Kw is the ion-product constant or dissociation constant for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H+] = [OH-] = 1.0 x 10-7 M at 25oC in pure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as an Acid and a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bstance is said to be amphoteric if it can behave either as an acid or as a base. Water is amphoteric (it can behave either as an acid or a 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+ H2O    H3O+ + OH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      con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1   base 2      acid 2    bas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w = [H3O+][OH-] = [H+][OH-] = 1  1014 at 25°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, Kw is the ion-product constant or dissociation constant for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+] = [OH-] = 1.0 x 10-7 M at 25oC in pur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7 Two Water Molecules React to Form H3O+ and OH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7 Two Water Molecules React to Form H3O+ and OH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pH scale provides a convenient way to represent solution acidity. The pH is a log scale based on 1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  log[H+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 in water ranges from 0 to 14. The pH decreases as [H+] incre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w = 1.00  1014 = [H+] [OH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Kw = -log Kw = 14.00 = pH + p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s pH rises, pOH falls (sum = 14.00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H = -log [OH-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pH scale provides a convenient way to represent solution acidity. The pH is a log scale based on 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  log[H+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 in water ranges from 0 to 14. The pH decreases as [H+] incr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w = 1.00  1014 = [H+] [OH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Kw = -log Kw = 14.00 = pH + p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s pH rises, pOH falls (sum = 14.0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H = -log [OH-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8 The pH Scale and pH Values of Some Common Subst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8 The pH Scale and pH Values of Some Common Subst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ing the pH of Strong Aci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pH of 1.0 M HC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HCl is a strong acid, the major species in solution are H+, Cl- and H2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alculate the pH we will focus on major species that can furnish H+. The acid is completely dissociates in water producing H+ and water also furnishes H+ by autoionization by the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2O(l)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+(aq) + OH-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pure water at 25oC, [H+] is 10-7M and in acidic solution even less than that. So the amount of H+ contributed by water is negligible compared with the 1.0M H+ from the dissociation of HC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= -log [H+] = -log (1.0)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the pH of Strong Acid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pH of 1.0 M H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HCl is a strong acid, the major species in solution are H+, Cl- and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alculate the pH we will focus on major species that can furnish H+. The acid is completely dissociates in water producing H+ and water also furnishes H+ by autoionization by the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(l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+(aq) + OH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ure water at 25oC, [H+] is 10-7M and in acidic solution even less than that. So the amount of H+ contributed by water is negligible compared with the 1.0M H+ from the dissociation of H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= -log [H+] = -log (1.0)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lving Weak Acid Equilibrium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st major species in sol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oose species that can produce H+ and write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sed on K values, decide on dominant equilibr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rite equilibrium expression for dominant equilibr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st initial concentrations in dominant equilibr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ing Weak Acid Equilibrium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st major species in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oose species that can produce H+ and write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ed on K values, decide on dominant equilib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rite equilibrium expression for dominant equilib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st initial concentrations in dominant equilib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lving Weak Acid Equilibrium Problems (continu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fine change at equilibrium (as “x”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rite equilibrium concentrations in terms of 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bstitute equilibrium concentrations into equilibrium expre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lve for x the “easy way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erify assumptions using 5% ru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lculate [H+] and p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ing Weak Acid Equilibrium Problems 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fine change at equilibrium (as “x”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rite equilibrium concentrations in terms of 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bstitute equilibrium concentrations into equilibrium expre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 for x the “easy wa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erify assumptions using 5% r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lculate [H+] and 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cent Dissociation (Ioniz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useful to specify the amount of weak acid that has dissociated in achieving equilibrium in an aqueous solution. The percent dissociation is defined as follow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given weak acid, the percent dissociation increases as the acid becomes more dilu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 Dissociation (Ioniz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useful to specify the amount of weak acid that has dissociated in achieving equilibrium in an aqueous solution. The percent dissociation is defined as follow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given weak acid, the percent dissociation increases as the acid becomes more dil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10 The Effect of Dilution on the Percent Dissociation and (H+) of a Weak Acid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10 The Effect of Dilution on the Percent Dissociation and (H+) of a Weak Acid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1 The Reaction of HCI and H2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2 The Reaction of an Acid with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3 The Reaction of NH3 with HCI to Form NH4+ and CI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1 The Reaction of HCI and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2 The Reaction of an Acid with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3 The Reaction of NH3 with HCI to Form NH4+ and CI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henius concept: A base is a substance that produces OH- ions in aqueous solu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nsted-Lowry concept: A base is a proton accep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” and “weak” are used in the same sense for bases as for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= complete dissociation (hydroxide ion supplied to solu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OH(s)    Na+(aq) + OH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henius concept: A base is a substance that produces OH- ions in aqueous solu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nsted-Lowry concept: A base is a proton accep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” and “weak” are used in the same sense for bases as for ac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= complete dissociation (hydroxide ion supplied to so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OH(s)    Na+(aq) + OH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 = very little dissociation (or reaction with wa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3CNH2(aq) + H2O(l)   H3CNH3+(aq) + OH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3CNH2 molecule accepts a proton and thus functions as a base. Water is the acid in this reaction. Methyl amine contains no hydroxide ion, it still increases the concentration of hydroxide ion to yield a basic sol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= very little dissociation (or reaction with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3CNH2(aq) + H2O(l)   H3CNH3+(aq) + OH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3CNH2 molecule accepts a proton and thus functions as a base. Water is the acid in this reaction. Methyl amine contains no hydroxide ion, it still increases the concentration of hydroxide ion to yield a basic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protic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. . can furnish more than one proton (H+) to the solution. A polyprotic acid always dissociates in a stepwise manner, one proton at a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typical weak polyprotic acid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1 &gt; Ka2 &gt; Ka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rot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. . can furnish more than one proton (H+) to the solution. A polyprotic acid always dissociates in a stepwise manner, one proton at a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typical weak polyprotic acid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1 &gt; Ka2 &gt; Ka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-Base Properties of Sa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id-Base Properties of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and Acid-Base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substance is dissolved in water, it produces an acidic solution if it can donate protons and produces a basic solution if it can accept prot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factors for acidity in binary compound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d Polarity (high is goo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d Strength (low is goo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and Acid-Base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substance is dissolved in water, it produces an acidic solution if it can donate protons and produces a basic solution if it can accept pr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factors for acidity in binary compoun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Polarity (high is goo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Strength (low is goo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11 The Effect of the Number of Attached Oxygens on the O-H Bond in a Series of of Chlorine Oxy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11 The Effect of the Number of Attached Oxygens on the O-H Bond in a Series of of Chlorine Oxy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x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ic Oxides (Acid Anhydrides): When a covalent oxide dissolves in water an acidic solution fo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X bond is strong and coval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2, NO2, CO2, Cr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sic Oxides (Basic Anhydrides): When an ionic oxide dissolves in water a basic solution resul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X bond is ion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2O, Ca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x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idic Oxides (Acid Anhydrides): When a covalent oxide dissolves in water an acidic solution 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X bond is strong and coval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2, NO2, CO2, Cr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ic Oxides (Basic Anhydrides): When an ionic oxide dissolves in water a basic solution resul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X bond is ion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2O, C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 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 Acid:  electron pair accep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 Base:  electron pair don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 acid has an empty atomic orbital that it can use to accept an electron pair from a molecule that has a lone pair of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         Lew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:  electron pair 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:  electron pair don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 has an empty atomic orbital that it can use to accept an electron pair from a molecule that has a lone pair of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        Lew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Figure 14.13 The AI(H2O)63+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igure 14.13 The AI(H2O)63+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gate Acid/Base Pa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(aq) + H2O(l)    H3O+(aq) + A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           conj               conj               con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1        base 2            acid 2            bas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gate base:  everything that remains of the acid molecule after a proton is lo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gate acid:  formed when the proton is transferred to the b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jugate acid-base pair consists of two substances related to each other by the donating and accepting of a single prot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Acid/Base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(aq) + H2O(l)    H3O+(aq) + A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           conj               conj               con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1        base 2            acid 2            bas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base:  everything that remains of the acid molecule after a proton is l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acid:  formed when the proton is transferred to the b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jugate acid-base pair consists of two substances related to each other by the donating and accepting of a single pro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Dissociation Constant (K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(aq) + H2O(l)    H3O+(aq) + A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, Ka is the acid dissociation constant. In dilute solution we can assume that the concentration of liquid water remains essentially constant when an acid is dissol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Dissociation Constant (K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(aq) + H2O(l)    H3O+(aq) + A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, Ka is the acid dissociation constant. In dilute solution we can assume that the concentration of liquid water remains essentially constant when an acid is diss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Str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rength of an acid is defined by the equilibrium position of its dissoci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ionization)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(aq) + H2O(l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3O+(aq) + A-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Aci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equilibrium position lies far to the right. (HNO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ields a weak conjugate base. (NO3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 strong acids are H2SO4, HCl, HNO3, HClO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ength of an acid is defined by the equilibrium position of its dissoci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onization)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(aq) + H2O(l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3O+(aq) + A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equilibrium position lies far to the right. (HNO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ields a weak conjugate base. (NO3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strong acids are H2SO4, HCl, HNO3, HCl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4 Graphic Representation of the Behavior of Acids of Different Strengths in Aqueous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4 Graphic Representation of the Behavior of Acids of Different Strengths in Aqueous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5 Acid Strength Versus Conjugate Base Str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5 Acid Strength Versus Conjugate Base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Strengt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 Aci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equilibrium lies far to the left. (CH3COO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ields a much stronger (it is relatively strong) conjugate base than water. (CH3COO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 weak acids are H3PO4, HNO2, HOCl, organic acids (-COOH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Strengt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equilibrium lies far to the left. (CH3COO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ields a much stronger (it is relatively strong) conjugate base than water. (CH3COO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weak acids are H3PO4, HNO2, HOCl, organic acids (-COOH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6 A Strong Acid (a) and a Weak Acid (b) in Wat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6 A Strong Acid (a) and a Weak Acid (b) in Wa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81C9-CBD8-42F1-BF24-F2B475660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EF83-FA86-41F5-95F4-316797D1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7864-3339-4DCC-8300-1E141C3E4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DA82-2854-4C5E-9E95-F505E2F33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D4A7-B836-41CB-8459-9B4B5B3B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9E3E-0C05-4754-B963-74E2DBA0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76CB-EBC8-4D6E-9440-F3317F98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16B0-7AE1-4FB5-9BE7-9FC76380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4E6B-E0DE-4061-8306-2945143A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ACFE-643A-47E6-A771-56A85652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EBEF-2EDD-4557-B3AB-7CA0EF72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AD7C-FE09-437F-A6BF-DB2BEF22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F6A4-2F0D-44D8-8E0D-E9C052414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Chapter 14</a:t>
            </a:r>
            <a:br>
              <a:rPr sz="4000"/>
            </a:b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Acids and B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Arrhenius Conce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Acids produce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solution, bases produce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Brønsted-Low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Acids are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nors, bases are proton accep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Cl  +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+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id      b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conjugate   conjug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          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n is transferred from the HCl molecule to the water molec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8487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Monoprotic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e acidic proton (HC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Diprotic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wo acidic protons (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H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Oxyaci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cidic proton is attached to an oxygen atom (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Organic aci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ose with a carbon atom backbone, contain the carboxyl group (-COOH).  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OOH,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OO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>
            <a:off x="3581280" y="16765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 flipH="1">
            <a:off x="3580920" y="1752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>
            <a:off x="3352680" y="28195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 flipH="1">
            <a:off x="3352320" y="2895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8"/>
          <p:cNvSpPr/>
          <p:nvPr/>
        </p:nvSpPr>
        <p:spPr>
          <a:xfrm>
            <a:off x="3429000" y="3352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9"/>
          <p:cNvSpPr/>
          <p:nvPr/>
        </p:nvSpPr>
        <p:spPr>
          <a:xfrm flipH="1">
            <a:off x="3428640" y="3429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Water as an Acid and a B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ubsta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aid to be amphoteric if it can behave either as an acid or as a base. Water is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amphoter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it can behave either as an acid or a bas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j      con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id 1   base 2      acid 2    b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[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[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= 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[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= 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t 25°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,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ion-product constant or dissociation constant for w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= [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= 1.0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7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 at 2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in pure w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chem5eart\ch14\fig14_07"/>
          <p:cNvPicPr/>
          <p:nvPr/>
        </p:nvPicPr>
        <p:blipFill>
          <a:blip r:embed="rId1"/>
          <a:stretch/>
        </p:blipFill>
        <p:spPr>
          <a:xfrm>
            <a:off x="457200" y="2590920"/>
            <a:ext cx="8229600" cy="9475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1066680" y="4114800"/>
            <a:ext cx="7086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7 Two Water Molecules React to Form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O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The pH Sca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H scale provides a convenient way to represent solution acidity. The pH is a log scale based on 1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 in water ranges from 0 to 14. The pH decreases as 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cre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.00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[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-log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14.00 = pH + pO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pH rises, pOH falls (sum = 14.00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H = -log [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chem5eart\ch14\fig14_08"/>
          <p:cNvPicPr/>
          <p:nvPr/>
        </p:nvPicPr>
        <p:blipFill>
          <a:blip r:embed="rId1"/>
          <a:stretch/>
        </p:blipFill>
        <p:spPr>
          <a:xfrm>
            <a:off x="3124080" y="304920"/>
            <a:ext cx="2579760" cy="5715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609480" y="60958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8 The pH Scale and pH Values of Some Common Subst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Calculating the pH of Strong Acid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e the pH of 1.0 M HC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HCl is a strong acid, the major species in solution are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alculate the pH we will focus on major species that can furnish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 acid is completely dissociates in water producing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water also furnishes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autoionization by the equilibr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(l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ure water at 2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, [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is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 and in acidic solution even less than that. So the amount of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ributed by water is negligible compared with the 1.0M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the dissociation of HC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 = -log [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= -log (1.0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3505320" y="43434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5"/>
          <p:cNvSpPr/>
          <p:nvPr/>
        </p:nvSpPr>
        <p:spPr>
          <a:xfrm flipH="1">
            <a:off x="3505320" y="44197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Solving Weak Acid Equilibrium Probl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major species in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species that can produce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write rea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K values, decide on dominant equilibri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equilibrium expression for dominant equilibri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initial concentrations in dominant equilibri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Solving Weak Acid Equilibrium Problems (continue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change at equilibrium (as 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equilibrium concentrations in term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titute equilibrium concentrations into equilibrium expr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“easy wa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y assumptions using 5% r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te 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and 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Percent Dissociation (Ionizatio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useful to specify the amount of weak acid that has dissociated in achieving equilibrium in an aqueous solution. The percent dissociation is defined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given weak acid, the percent dissociation increases as the acid becomes more dilu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Object 5"/>
          <p:cNvGraphicFramePr/>
          <p:nvPr/>
        </p:nvGraphicFramePr>
        <p:xfrm>
          <a:off x="685800" y="3733920"/>
          <a:ext cx="7924680" cy="10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733920"/>
                    <a:ext cx="792468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chem5eart\ch14\fig14_10"/>
          <p:cNvPicPr/>
          <p:nvPr/>
        </p:nvPicPr>
        <p:blipFill>
          <a:blip r:embed="rId1"/>
          <a:stretch/>
        </p:blipFill>
        <p:spPr>
          <a:xfrm>
            <a:off x="1600200" y="228600"/>
            <a:ext cx="6095880" cy="59436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"/>
          <p:cNvSpPr/>
          <p:nvPr/>
        </p:nvSpPr>
        <p:spPr>
          <a:xfrm>
            <a:off x="457200" y="601992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14.10 The Effect of Dilution on the Percent Dissociation and (H+) of a Weak Acid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chem5eart\ch14\fig14_01"/>
          <p:cNvPicPr/>
          <p:nvPr/>
        </p:nvPicPr>
        <p:blipFill>
          <a:blip r:embed="rId1"/>
          <a:stretch/>
        </p:blipFill>
        <p:spPr>
          <a:xfrm>
            <a:off x="609480" y="457200"/>
            <a:ext cx="7848720" cy="10256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2362320" y="1676520"/>
            <a:ext cx="4800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1 The Reaction of HCI and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C:\chem5eart\ch14\fig14_02"/>
          <p:cNvPicPr/>
          <p:nvPr/>
        </p:nvPicPr>
        <p:blipFill>
          <a:blip r:embed="rId2"/>
          <a:stretch/>
        </p:blipFill>
        <p:spPr>
          <a:xfrm>
            <a:off x="457200" y="2438280"/>
            <a:ext cx="7848720" cy="10400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2362320" y="373392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2 The Reaction of an Acid with 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C:\chem5eart\ch14\fig14_03"/>
          <p:cNvPicPr/>
          <p:nvPr/>
        </p:nvPicPr>
        <p:blipFill>
          <a:blip r:embed="rId3"/>
          <a:stretch/>
        </p:blipFill>
        <p:spPr>
          <a:xfrm>
            <a:off x="533520" y="4419720"/>
            <a:ext cx="7924680" cy="105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7"/>
          <p:cNvSpPr/>
          <p:nvPr/>
        </p:nvSpPr>
        <p:spPr>
          <a:xfrm>
            <a:off x="1219320" y="5867280"/>
            <a:ext cx="6933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3 The Reaction of N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HCI to Form N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C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B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Arrhenius conce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 base is a substance that produces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ons in aqueous solu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Bronsted-Lowry conce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 base is a proton accep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tro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and “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wea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are used in the same sense for bases as for aci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tro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omplete dissoci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hydroxide ion supplied to solu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O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Bases</a:t>
            </a:r>
            <a:br>
              <a:rPr sz="4000"/>
            </a:b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eak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very little dissoci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r reaction with wate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(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lecule accepts a proton and thus functions as a base. Water is the acid in this reaction. Methyl amine contains no hydroxide ion, it still increases the concentration of hydroxide ion to yield a basic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Polyprotic Ac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. . can furnish more than one proton (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o the solution. A polyprotic acid always dissociates in a stepwise manner, one proton at a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typical weak polyprotic acid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gt;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gt;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1523880" y="3352680"/>
          <a:ext cx="601992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01992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Acid-Base Properties of Sa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6"/>
          <p:cNvGraphicFramePr/>
          <p:nvPr/>
        </p:nvGraphicFramePr>
        <p:xfrm>
          <a:off x="504720" y="1219320"/>
          <a:ext cx="8132760" cy="541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1219320"/>
                    <a:ext cx="813276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Structure and Acid-Base Proper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substance is dissolved in water, it produces an acidic solution if it can donate protons and produces a basic solution if it can accept prot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factors for acidity in binary compoun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cc99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Bond Polarity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high is goo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cc99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Bond Strength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ow is goo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chem5eart\ch14\fig14_11"/>
          <p:cNvPicPr/>
          <p:nvPr/>
        </p:nvPicPr>
        <p:blipFill>
          <a:blip r:embed="rId1"/>
          <a:stretch/>
        </p:blipFill>
        <p:spPr>
          <a:xfrm>
            <a:off x="3352680" y="304920"/>
            <a:ext cx="2019600" cy="57909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304920" y="617220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14.1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Effect of the Number of Attached Oxygens on the O-H Bond in a Series of of Chlorine Oxyac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Oxi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Acidic Oxides (Acid Anhydrides):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covalent oxide dissolves in water an acidic solution fo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599"/>
              </a:spcBef>
              <a:buClr>
                <a:srgbClr val="339933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339933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X bond is strong and coval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, NO</a:t>
            </a:r>
            <a:r>
              <a:rPr b="0" lang="en-US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, CO</a:t>
            </a:r>
            <a:r>
              <a:rPr b="0" lang="en-US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, CrO</a:t>
            </a:r>
            <a:r>
              <a:rPr b="0" lang="en-US" sz="3200" spc="-1" strike="noStrike" baseline="-25000">
                <a:solidFill>
                  <a:srgbClr val="339933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Basic Oxides (Basic Anhydrides):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n ionic oxide dissolves in water a basic solution resul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599"/>
              </a:spcBef>
              <a:buClr>
                <a:srgbClr val="339933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339933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X bond is ion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O, C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Lewis Acids and B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1536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Lewis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electron pair </a:t>
            </a:r>
            <a:r>
              <a:rPr b="0" lang="en-US" sz="3200" spc="-1" strike="noStrike">
                <a:solidFill>
                  <a:srgbClr val="f39fd1"/>
                </a:solidFill>
                <a:latin typeface="Times New Roman"/>
              </a:rPr>
              <a:t>accep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Lewis B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electron pair </a:t>
            </a:r>
            <a:r>
              <a:rPr b="0" lang="en-US" sz="3200" spc="-1" strike="noStrike">
                <a:solidFill>
                  <a:srgbClr val="f39fd1"/>
                </a:solidFill>
                <a:latin typeface="Times New Roman"/>
              </a:rPr>
              <a:t>don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wis acid has an empty atomic orbital that it can use to accept an electron pair from a molecule that has a lone pair of electr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wis         Lew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Object 4"/>
          <p:cNvGraphicFramePr/>
          <p:nvPr/>
        </p:nvGraphicFramePr>
        <p:xfrm>
          <a:off x="1143000" y="3962520"/>
          <a:ext cx="640080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962520"/>
                    <a:ext cx="64008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:\chem5eart\ch14\7522n14_12"/>
          <p:cNvPicPr/>
          <p:nvPr/>
        </p:nvPicPr>
        <p:blipFill>
          <a:blip r:embed="rId1"/>
          <a:stretch/>
        </p:blipFill>
        <p:spPr>
          <a:xfrm>
            <a:off x="533520" y="1066680"/>
            <a:ext cx="8001000" cy="33116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3"/>
          <p:cNvSpPr/>
          <p:nvPr/>
        </p:nvSpPr>
        <p:spPr>
          <a:xfrm>
            <a:off x="2590920" y="5410080"/>
            <a:ext cx="434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13 The AI(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Conjugate Acid/Base Pai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           conj               conj               con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id 1        base 2            acid 2            bas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onjugate b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everything that remains of the acid molecule after a proton is lo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onjugate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formed when the proton is transferred to th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onjugate acid-base pai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sists of two substances related to each other by the donating and accepting of a single prot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Acid Dissociation Constant (</a:t>
            </a:r>
            <a:r>
              <a:rPr b="1" i="1" lang="en-US" sz="4000" spc="-1" strike="noStrike">
                <a:solidFill>
                  <a:srgbClr val="ff9900"/>
                </a:solidFill>
                <a:latin typeface="Times New Roman"/>
              </a:rPr>
              <a:t>K</a:t>
            </a:r>
            <a:r>
              <a:rPr b="0" lang="en-US" sz="4000" spc="-1" strike="noStrike" baseline="-25000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,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acid dissociation constant. In dilute solution we can assume that the concentration of liquid water remains essentially constant when an acid is dissol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Object 4"/>
          <p:cNvGraphicFramePr/>
          <p:nvPr/>
        </p:nvGraphicFramePr>
        <p:xfrm>
          <a:off x="1600200" y="2590920"/>
          <a:ext cx="571500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590920"/>
                    <a:ext cx="57150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Acid Streng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rength of an acid is defined by the equilibrium position of its dissoci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ionization)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l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trong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s equilibrium position lies far to the right.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HNO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ields a weak conjugate base.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NO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strong acids are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, HCl, HNO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, HClO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5"/>
          <p:cNvSpPr/>
          <p:nvPr/>
        </p:nvSpPr>
        <p:spPr>
          <a:xfrm flipH="1">
            <a:off x="3885840" y="2895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chem5eart\ch14\fig14_04"/>
          <p:cNvPicPr/>
          <p:nvPr/>
        </p:nvPicPr>
        <p:blipFill>
          <a:blip r:embed="rId1"/>
          <a:stretch/>
        </p:blipFill>
        <p:spPr>
          <a:xfrm>
            <a:off x="2286000" y="380880"/>
            <a:ext cx="4471920" cy="5715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457200" y="6095880"/>
            <a:ext cx="8305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igure 14.4 Graphic Representation of the Behavior of Acids of Different Strengths in Aqueous Solu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chem5eart\ch14\fig14_05"/>
          <p:cNvPicPr/>
          <p:nvPr/>
        </p:nvPicPr>
        <p:blipFill>
          <a:blip r:embed="rId1"/>
          <a:stretch/>
        </p:blipFill>
        <p:spPr>
          <a:xfrm>
            <a:off x="2971800" y="304920"/>
            <a:ext cx="3311640" cy="58672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1219320" y="624852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5 Acid Strength Versus Conjugate Base Str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Acid Strength</a:t>
            </a:r>
            <a:br>
              <a:rPr sz="4000"/>
            </a:b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Weak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s equilibrium lies far to the left.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CH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OO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ields a much stronger (it is relatively strong) conjugate base than water.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CH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OO</a:t>
            </a:r>
            <a:r>
              <a:rPr b="0" lang="en-US" sz="3200" spc="-1" strike="noStrike" baseline="30000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weak acids are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PO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, HNO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OCl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ganic acids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-COOH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chem5eart\ch14\fig14_06"/>
          <p:cNvPicPr/>
          <p:nvPr/>
        </p:nvPicPr>
        <p:blipFill>
          <a:blip r:embed="rId1"/>
          <a:stretch/>
        </p:blipFill>
        <p:spPr>
          <a:xfrm>
            <a:off x="762120" y="533520"/>
            <a:ext cx="7467480" cy="54068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1143000" y="609588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6 A Strong Acid (a) and a Weak Acid (b) in Wat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0T07:25:12Z</dcterms:created>
  <dc:creator>Anwar A. Bhuiyan</dc:creator>
  <dc:description/>
  <dc:language>en-US</dc:language>
  <cp:lastModifiedBy>LEGION</cp:lastModifiedBy>
  <dcterms:modified xsi:type="dcterms:W3CDTF">2017-01-26T09:10:55Z</dcterms:modified>
  <cp:revision>9</cp:revision>
  <dc:subject/>
  <dc:title>Acids and Bases</dc:title>
</cp:coreProperties>
</file>